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36002913" cy="21604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57160" y="1142640"/>
            <a:ext cx="514368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967F-3254-4A4C-8A6C-11E625E56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7160" y="1143000"/>
            <a:ext cx="5143680" cy="3086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5400" spc="-1" strike="noStrike">
              <a:solidFill>
                <a:srgbClr val="000000"/>
              </a:solidFill>
              <a:latin typeface="Calibri"/>
              <a:ea typeface="Cordia New"/>
            </a:endParaRPr>
          </a:p>
        </p:txBody>
      </p:sp>
      <p:sp>
        <p:nvSpPr>
          <p:cNvPr id="148" name="ตัวแทนหมายเลขภาพนิ่ง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597C-DCE4-48D1-8992-9481C86B75A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041B-800B-4895-8DCE-0FC43E68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00000" y="5040000"/>
            <a:ext cx="3240396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00000" y="12485880"/>
            <a:ext cx="3240396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5425-72EC-4CBD-9788-F7457174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00000" y="5040000"/>
            <a:ext cx="1581300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03920" y="5040000"/>
            <a:ext cx="1581300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00000" y="12485880"/>
            <a:ext cx="1581300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403920" y="12485880"/>
            <a:ext cx="1581300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3BCC-D34E-4F83-813B-B6BE4CED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00000" y="5040000"/>
            <a:ext cx="1043388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755880" y="5040000"/>
            <a:ext cx="1043388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711760" y="5040000"/>
            <a:ext cx="1043388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00000" y="12485880"/>
            <a:ext cx="1043388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755880" y="12485880"/>
            <a:ext cx="1043388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711760" y="12485880"/>
            <a:ext cx="1043388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14A-5D28-4DE0-9B4B-361F2F49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00000" y="5040000"/>
            <a:ext cx="32403960" cy="142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00000" y="5040000"/>
            <a:ext cx="32403960" cy="1425564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00000" y="5040000"/>
            <a:ext cx="15813000" cy="1425564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8403920" y="5040000"/>
            <a:ext cx="15813000" cy="1425564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800000" y="866520"/>
            <a:ext cx="32403960" cy="166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00000" y="5040000"/>
            <a:ext cx="1581300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8403920" y="5040000"/>
            <a:ext cx="15813000" cy="1425564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800000" y="12485880"/>
            <a:ext cx="1581300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00000" y="5040000"/>
            <a:ext cx="32403960" cy="142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A6B-AF3F-4AA5-806D-A69524DE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00000" y="5040000"/>
            <a:ext cx="15813000" cy="1425564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8403920" y="5040000"/>
            <a:ext cx="1581300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8403920" y="12485880"/>
            <a:ext cx="1581300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00000" y="5040000"/>
            <a:ext cx="1581300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8403920" y="5040000"/>
            <a:ext cx="1581300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800000" y="12485880"/>
            <a:ext cx="3240396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00000" y="5040000"/>
            <a:ext cx="3240396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800000" y="12485880"/>
            <a:ext cx="3240396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00000" y="5040000"/>
            <a:ext cx="1581300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403920" y="5040000"/>
            <a:ext cx="1581300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800000" y="12485880"/>
            <a:ext cx="1581300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8403920" y="12485880"/>
            <a:ext cx="1581300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00000" y="5040000"/>
            <a:ext cx="1043388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755880" y="5040000"/>
            <a:ext cx="1043388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3711760" y="5040000"/>
            <a:ext cx="1043388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800000" y="12485880"/>
            <a:ext cx="1043388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12755880" y="12485880"/>
            <a:ext cx="1043388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23711760" y="12485880"/>
            <a:ext cx="1043388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00000" y="5040000"/>
            <a:ext cx="32403960" cy="1425564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139-9A1B-4DF2-AB66-64FBC6F6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00000" y="5040000"/>
            <a:ext cx="15813000" cy="1425564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403920" y="5040000"/>
            <a:ext cx="15813000" cy="1425564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E204-7FF6-4F29-B3E1-B4A8E2ED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BF2-7A70-45B0-A575-944FB95A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00000" y="866520"/>
            <a:ext cx="32403960" cy="166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BC1-8A5E-424C-B121-E8130507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00000" y="5040000"/>
            <a:ext cx="1581300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03920" y="5040000"/>
            <a:ext cx="15813000" cy="1425564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00000" y="12485880"/>
            <a:ext cx="1581300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00A-FBD2-47D5-9FD4-0300F6AD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00000" y="5040000"/>
            <a:ext cx="15813000" cy="1425564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03920" y="5040000"/>
            <a:ext cx="1581300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403920" y="12485880"/>
            <a:ext cx="1581300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D23-7596-4374-BF45-3007CD17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00000" y="5040000"/>
            <a:ext cx="1581300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403920" y="5040000"/>
            <a:ext cx="1581300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00000" y="12485880"/>
            <a:ext cx="32403960" cy="679968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34E6-0691-424B-8ECB-C66C6A5E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00000" y="5040000"/>
            <a:ext cx="32403960" cy="1425564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 fontScale="75000"/>
          </a:bodyPr>
          <a:p>
            <a:pPr marL="1165320" indent="-1165320">
              <a:spcBef>
                <a:spcPts val="36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  <a:p>
            <a:pPr lvl="1" marL="2526120" indent="-971280">
              <a:spcBef>
                <a:spcPts val="36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  <a:p>
            <a:pPr lvl="2" marL="3887280" indent="-777600">
              <a:spcBef>
                <a:spcPts val="36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  <a:p>
            <a:pPr lvl="3" marL="5443200" indent="-777240">
              <a:spcBef>
                <a:spcPts val="36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  <a:p>
            <a:pPr lvl="4" marL="6998400" indent="-77724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  <a:p>
            <a:pPr lvl="5" marL="6998400" indent="-77724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  <a:p>
            <a:pPr lvl="6" marL="6998400" indent="-77724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00360" y="20022840"/>
            <a:ext cx="8400960" cy="1152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5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301200" y="20022840"/>
            <a:ext cx="11401560" cy="1152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803360" y="20022840"/>
            <a:ext cx="8400960" cy="1152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5400" spc="-1" strike="noStrike">
                <a:solidFill>
                  <a:srgbClr val="898989"/>
                </a:solidFill>
                <a:latin typeface="Arial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7CCA-99A1-40F4-95EE-BC07106EF067}" type="slidenum">
              <a:rPr b="0" lang="ko-KR" sz="5400" spc="-1" strike="noStrike">
                <a:solidFill>
                  <a:srgbClr val="898989"/>
                </a:solidFill>
                <a:latin typeface="Arial"/>
                <a:ea typeface="굴림"/>
              </a:rPr>
              <a:t>&lt;number&gt;</a:t>
            </a:fld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000" y="866520"/>
            <a:ext cx="32403960" cy="360036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00000" y="5040000"/>
            <a:ext cx="32403960" cy="14255640"/>
          </a:xfrm>
          <a:prstGeom prst="rect">
            <a:avLst/>
          </a:prstGeom>
          <a:noFill/>
          <a:ln w="0">
            <a:noFill/>
          </a:ln>
        </p:spPr>
        <p:txBody>
          <a:bodyPr lIns="414720" rIns="414720" tIns="207360" bIns="207360" anchor="t">
            <a:normAutofit fontScale="75000"/>
          </a:bodyPr>
          <a:p>
            <a:pPr marL="1165320" indent="-1165320">
              <a:spcBef>
                <a:spcPts val="36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  <a:p>
            <a:pPr lvl="1" marL="2526120" indent="-971280">
              <a:spcBef>
                <a:spcPts val="36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  <a:p>
            <a:pPr lvl="2" marL="3887280" indent="-777600">
              <a:spcBef>
                <a:spcPts val="36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  <a:p>
            <a:pPr lvl="3" marL="5443200" indent="-777240">
              <a:spcBef>
                <a:spcPts val="36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  <a:p>
            <a:pPr lvl="4" marL="6998400" indent="-77724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  <a:p>
            <a:pPr lvl="5" marL="6998400" indent="-77724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  <a:p>
            <a:pPr lvl="6" marL="6998400" indent="-77724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5"/>
          <p:cNvSpPr/>
          <p:nvPr/>
        </p:nvSpPr>
        <p:spPr>
          <a:xfrm>
            <a:off x="-2803680" y="47520"/>
            <a:ext cx="41489640" cy="15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Tahoma"/>
              </a:rPr>
              <a:t>ผังโครงสร้างระบบบัญชาการเหตุการณ์ 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ncident Command System : ICS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Tahoma"/>
              </a:rPr>
              <a:t>สำหรับทุกโรคและภัยสุขภาพ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Tahoma"/>
              </a:rPr>
              <a:t>สำนักงานสาธารณสุขจังหวัดพะเย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1523600" y="1419120"/>
            <a:ext cx="14030280" cy="2216160"/>
          </a:xfrm>
          <a:prstGeom prst="rect">
            <a:avLst/>
          </a:prstGeom>
          <a:solidFill>
            <a:srgbClr val="ebf1de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3600" spc="-1" strike="noStrike">
                <a:solidFill>
                  <a:srgbClr val="000000"/>
                </a:solidFill>
                <a:latin typeface="Tahoma"/>
                <a:ea typeface="Tahoma"/>
              </a:rPr>
              <a:t>INCIDENT COMMANDER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Tahoma"/>
              </a:rPr>
              <a:t>ผู้บัญชาการเหตุการณ์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Tahoma"/>
              </a:rPr>
              <a:t>นายแพทย์ศุภชัย บุญอำพันธ์  นพ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Tahoma"/>
              </a:rPr>
              <a:t>สสจ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 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Tahoma"/>
              </a:rPr>
              <a:t>09 874770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Tahoma"/>
              </a:rPr>
              <a:t>นายแพทย์ธวัชชัย ปานทอง ผอ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Tahoma"/>
              </a:rPr>
              <a:t>รพ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09 051966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10364760" y="10698120"/>
            <a:ext cx="9345600" cy="1471680"/>
          </a:xfrm>
          <a:prstGeom prst="rect">
            <a:avLst/>
          </a:prstGeom>
          <a:solidFill>
            <a:srgbClr val="e6b9b8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800" spc="-1" strike="noStrike">
                <a:solidFill>
                  <a:srgbClr val="000000"/>
                </a:solidFill>
                <a:latin typeface="Tahoma"/>
                <a:ea typeface="Tahoma"/>
              </a:rPr>
              <a:t>POE :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OINT OF ENTRY </a:t>
            </a:r>
            <a:r>
              <a:rPr b="1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ลุ่มภารกิจคัดกรองด่านเข้าออก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นายแพทย์ประพัฒน์ ธรรมสอน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รพ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เชียงคำ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08147362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นายแพทย์อดิศักดิ์ สิทธิการ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รพ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ภูซาง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 08 1039 69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Connector: Elbow 83"/>
          <p:cNvCxnSpPr/>
          <p:nvPr/>
        </p:nvCxnSpPr>
        <p:spPr>
          <a:xfrm flipH="1" rot="16200000">
            <a:off x="3548160" y="15624000"/>
            <a:ext cx="7495200" cy="646560"/>
          </a:xfrm>
          <a:prstGeom prst="bentConnector3">
            <a:avLst>
              <a:gd name="adj1" fmla="val 99433"/>
            </a:avLst>
          </a:prstGeom>
          <a:ln w="31680">
            <a:solidFill>
              <a:srgbClr val="ff0000"/>
            </a:solidFill>
            <a:miter/>
          </a:ln>
        </p:spPr>
      </p:cxnSp>
      <p:sp>
        <p:nvSpPr>
          <p:cNvPr id="90" name="Straight Connector 149"/>
          <p:cNvSpPr/>
          <p:nvPr/>
        </p:nvSpPr>
        <p:spPr>
          <a:xfrm>
            <a:off x="7020000" y="13622400"/>
            <a:ext cx="7347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02"/>
          <p:cNvSpPr/>
          <p:nvPr/>
        </p:nvSpPr>
        <p:spPr>
          <a:xfrm>
            <a:off x="7054920" y="17786520"/>
            <a:ext cx="612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10"/>
          <p:cNvSpPr/>
          <p:nvPr/>
        </p:nvSpPr>
        <p:spPr>
          <a:xfrm>
            <a:off x="7667640" y="16983000"/>
            <a:ext cx="10469520" cy="1577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800" spc="-1" strike="noStrike">
                <a:solidFill>
                  <a:srgbClr val="000000"/>
                </a:solidFill>
                <a:latin typeface="Tahoma"/>
                <a:ea typeface="Tahoma"/>
              </a:rPr>
              <a:t>MENTAL HEALTH TEAM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ทีมสุขภาพจิต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พญ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ณิชาภัทร เกียรติคุณธรรม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รพ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 08 1766 67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นางแสงทวน แก้วจิโน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สสจ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 09 5134 51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1"/>
          <p:cNvSpPr/>
          <p:nvPr/>
        </p:nvSpPr>
        <p:spPr>
          <a:xfrm>
            <a:off x="7667640" y="18708840"/>
            <a:ext cx="10469520" cy="1876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800" spc="-1" strike="noStrike">
                <a:solidFill>
                  <a:srgbClr val="000000"/>
                </a:solidFill>
                <a:latin typeface="Tahoma"/>
                <a:ea typeface="Tahoma"/>
              </a:rPr>
              <a:t>MEDICAL EMERGENCY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ทีมปฏิบัติการด้านการแพทย์ฉุกเฉิน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พญ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เอม สิรวราภรณ์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รพ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 083 715 86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นางจารุวรรณ บัวบึง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สสจ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08 6116 88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2"/>
          <p:cNvSpPr/>
          <p:nvPr/>
        </p:nvSpPr>
        <p:spPr>
          <a:xfrm>
            <a:off x="3468600" y="12325320"/>
            <a:ext cx="2643120" cy="649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400" spc="-1" strike="noStrike">
                <a:solidFill>
                  <a:srgbClr val="000000"/>
                </a:solidFill>
                <a:latin typeface="Tahoma"/>
                <a:ea typeface="Tahoma"/>
              </a:rPr>
              <a:t>EMT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72"/>
          <p:cNvSpPr/>
          <p:nvPr/>
        </p:nvSpPr>
        <p:spPr>
          <a:xfrm flipV="1">
            <a:off x="7020000" y="15623640"/>
            <a:ext cx="647640" cy="334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3"/>
          <p:cNvSpPr/>
          <p:nvPr/>
        </p:nvSpPr>
        <p:spPr>
          <a:xfrm>
            <a:off x="7754760" y="12779280"/>
            <a:ext cx="10382400" cy="15591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ISEASE CONTROL TEAM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ทีมควบคุมโรค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นายแพทย์สมภพ เมืองชื่น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สสจ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 09 5450 12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นางฉัตรศิริ พิสิษฐ์กุล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สสจ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 08 9008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9"/>
          <p:cNvSpPr/>
          <p:nvPr/>
        </p:nvSpPr>
        <p:spPr>
          <a:xfrm>
            <a:off x="22315320" y="5340240"/>
            <a:ext cx="13573440" cy="9781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400" spc="-1" strike="noStrike">
                <a:solidFill>
                  <a:srgbClr val="000000"/>
                </a:solidFill>
                <a:latin typeface="Tahoma"/>
                <a:ea typeface="Tahoma"/>
              </a:rPr>
              <a:t>HR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การบริหารทรัพยากรบุคคล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)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นายแพทย์ไชยวัฒน์ ภูติยานันต์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รพ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เชียงคำ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) 08 9851 9258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นางรัชนี ขัตตะละ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สสจ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)  08 1034 8907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61"/>
          <p:cNvSpPr/>
          <p:nvPr/>
        </p:nvSpPr>
        <p:spPr>
          <a:xfrm>
            <a:off x="17942040" y="4537080"/>
            <a:ext cx="566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2"/>
          <p:cNvSpPr/>
          <p:nvPr/>
        </p:nvSpPr>
        <p:spPr>
          <a:xfrm>
            <a:off x="22298040" y="6480000"/>
            <a:ext cx="13590720" cy="5810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400" spc="-1" strike="noStrike">
                <a:solidFill>
                  <a:srgbClr val="000000"/>
                </a:solidFill>
                <a:latin typeface="Tahoma"/>
                <a:ea typeface="Tahoma"/>
              </a:rPr>
              <a:t>DOCUMENTATION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จัดทำแผนและเอกสาร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)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นางนงคราญ สกุณาพงศ์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สสจ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) 091139 56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63"/>
          <p:cNvSpPr/>
          <p:nvPr/>
        </p:nvSpPr>
        <p:spPr>
          <a:xfrm flipV="1">
            <a:off x="18516600" y="4508640"/>
            <a:ext cx="2279520" cy="2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64"/>
          <p:cNvSpPr/>
          <p:nvPr/>
        </p:nvSpPr>
        <p:spPr>
          <a:xfrm>
            <a:off x="18508680" y="9588600"/>
            <a:ext cx="1330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Connector: Elbow 2"/>
          <p:cNvCxnSpPr/>
          <p:nvPr/>
        </p:nvCxnSpPr>
        <p:spPr>
          <a:xfrm flipH="1" rot="16200000">
            <a:off x="20531880" y="6537600"/>
            <a:ext cx="3027960" cy="505440"/>
          </a:xfrm>
          <a:prstGeom prst="bentConnector2">
            <a:avLst/>
          </a:prstGeom>
          <a:ln w="31680">
            <a:solidFill>
              <a:srgbClr val="ff0000"/>
            </a:solidFill>
            <a:miter/>
          </a:ln>
        </p:spPr>
      </p:cxnSp>
      <p:sp>
        <p:nvSpPr>
          <p:cNvPr id="103" name="Straight Connector 9"/>
          <p:cNvSpPr/>
          <p:nvPr/>
        </p:nvSpPr>
        <p:spPr>
          <a:xfrm>
            <a:off x="21810600" y="6111720"/>
            <a:ext cx="504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7"/>
          <p:cNvSpPr/>
          <p:nvPr/>
        </p:nvSpPr>
        <p:spPr>
          <a:xfrm>
            <a:off x="0" y="7167600"/>
            <a:ext cx="6324480" cy="14209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SG" sz="2800" spc="-1" strike="noStrike">
                <a:solidFill>
                  <a:srgbClr val="000000"/>
                </a:solidFill>
                <a:latin typeface="Tahoma"/>
                <a:ea typeface="Tahoma"/>
              </a:rPr>
              <a:t>ntra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SG" sz="28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SG" sz="2800" spc="-1" strike="noStrike">
                <a:solidFill>
                  <a:srgbClr val="000000"/>
                </a:solidFill>
                <a:latin typeface="Tahoma"/>
                <a:ea typeface="Tahoma"/>
              </a:rPr>
              <a:t>agency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นางจินตนา ยายอ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06 1412 97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8"/>
          <p:cNvSpPr/>
          <p:nvPr/>
        </p:nvSpPr>
        <p:spPr>
          <a:xfrm>
            <a:off x="289080" y="10720440"/>
            <a:ext cx="9864720" cy="1449360"/>
          </a:xfrm>
          <a:prstGeom prst="rect">
            <a:avLst/>
          </a:prstGeom>
          <a:solidFill>
            <a:srgbClr val="fcd5b5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800" spc="-1" strike="noStrike">
                <a:solidFill>
                  <a:srgbClr val="000000"/>
                </a:solidFill>
                <a:latin typeface="Tahoma"/>
                <a:ea typeface="Tahoma"/>
              </a:rPr>
              <a:t>OPERATION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ลุ่มภารกิจปฏิบัติการ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นายแพทย์อนันต์ มาลัยรุ่งสกุล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รพ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 08 6185 17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นายแพทย์ประพัฒน์ ธรรมสอน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รพ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เชียงคำ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 08 1473 62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Connector: Elbow 229"/>
          <p:cNvCxnSpPr>
            <a:stCxn id="87" idx="2"/>
          </p:cNvCxnSpPr>
          <p:nvPr/>
        </p:nvCxnSpPr>
        <p:spPr>
          <a:xfrm rot="5400000">
            <a:off x="8942400" y="703800"/>
            <a:ext cx="6665040" cy="12527640"/>
          </a:xfrm>
          <a:prstGeom prst="bentConnector3">
            <a:avLst>
              <a:gd name="adj1" fmla="val 51823"/>
            </a:avLst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107" name="Connector: Elbow 236"/>
          <p:cNvCxnSpPr/>
          <p:nvPr/>
        </p:nvCxnSpPr>
        <p:spPr>
          <a:xfrm>
            <a:off x="18465840" y="10329480"/>
            <a:ext cx="13351680" cy="400680"/>
          </a:xfrm>
          <a:prstGeom prst="bentConnector2">
            <a:avLst/>
          </a:prstGeom>
          <a:ln w="31680">
            <a:solidFill>
              <a:srgbClr val="000000"/>
            </a:solidFill>
            <a:miter/>
          </a:ln>
        </p:spPr>
      </p:cxnSp>
      <p:sp>
        <p:nvSpPr>
          <p:cNvPr id="108" name="Rectangle 107"/>
          <p:cNvSpPr/>
          <p:nvPr/>
        </p:nvSpPr>
        <p:spPr>
          <a:xfrm>
            <a:off x="19813680" y="8772480"/>
            <a:ext cx="9997920" cy="1424160"/>
          </a:xfrm>
          <a:prstGeom prst="rect">
            <a:avLst/>
          </a:prstGeom>
          <a:solidFill>
            <a:srgbClr val="ebf1de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400" spc="-1" strike="noStrike">
                <a:solidFill>
                  <a:srgbClr val="000000"/>
                </a:solidFill>
                <a:latin typeface="Tahoma"/>
                <a:ea typeface="Tahoma"/>
              </a:rPr>
              <a:t>PIO/RC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กลุ่มภารกิจสื่อสารความเสี่ยงและประชาสัมพันธ์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นางสาวสุทธิพร ชมพูศรี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สสจ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) 08  4608 52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นางนุชนาฎ เหมวุฒิพันธ์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สสจ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) 08 1885 73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5"/>
          <p:cNvSpPr/>
          <p:nvPr/>
        </p:nvSpPr>
        <p:spPr>
          <a:xfrm>
            <a:off x="19937520" y="10817280"/>
            <a:ext cx="7362720" cy="160488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400" spc="-1" strike="noStrike">
                <a:solidFill>
                  <a:srgbClr val="000000"/>
                </a:solidFill>
                <a:latin typeface="Tahoma"/>
                <a:ea typeface="Tahoma"/>
              </a:rPr>
              <a:t>LOGISTICS &amp; STOCKPILLING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กลุ่มภารกิจสำรองเวชภัณฑ์และส่งกำลังบำรุง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นางสิริมา วิไลลักษณ์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รพ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) 084 682 46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น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ส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สุภาภรณ์ ใจบุญลือ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08 1596 12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8"/>
          <p:cNvSpPr/>
          <p:nvPr/>
        </p:nvSpPr>
        <p:spPr>
          <a:xfrm>
            <a:off x="20796120" y="3816360"/>
            <a:ext cx="12053880" cy="1384200"/>
          </a:xfrm>
          <a:prstGeom prst="rect">
            <a:avLst/>
          </a:prstGeom>
          <a:solidFill>
            <a:srgbClr val="dbeef4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800" spc="-1" strike="noStrike">
                <a:solidFill>
                  <a:srgbClr val="000000"/>
                </a:solidFill>
                <a:latin typeface="Tahoma"/>
                <a:ea typeface="Tahoma"/>
              </a:rPr>
              <a:t>STAG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ลุ่มภารกิจยุทธศาสตร์และวิชาการ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แพทย์หญิงวิราวรรณ  ศรีงามวงศ์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รพ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 098 914 55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นางปรียานุช เชิดชูเหล่า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สสจ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 087717735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5"/>
          <p:cNvSpPr/>
          <p:nvPr/>
        </p:nvSpPr>
        <p:spPr>
          <a:xfrm>
            <a:off x="1506600" y="20637360"/>
            <a:ext cx="900108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200" spc="-1" strike="noStrike">
                <a:solidFill>
                  <a:srgbClr val="000000"/>
                </a:solidFill>
                <a:latin typeface="Tahoma"/>
                <a:ea typeface="Tahoma"/>
              </a:rPr>
              <a:t>SAT:  </a:t>
            </a:r>
            <a:r>
              <a:rPr b="0" lang="en-SG" sz="2200" spc="-1" strike="noStrike">
                <a:solidFill>
                  <a:srgbClr val="000000"/>
                </a:solidFill>
                <a:latin typeface="Tahoma"/>
                <a:ea typeface="Tahoma"/>
              </a:rPr>
              <a:t>Situation Awareness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200" spc="-1" strike="noStrike">
                <a:solidFill>
                  <a:srgbClr val="000000"/>
                </a:solidFill>
                <a:latin typeface="Tahoma"/>
                <a:ea typeface="Tahoma"/>
              </a:rPr>
              <a:t>PIO:  </a:t>
            </a:r>
            <a:r>
              <a:rPr b="0" lang="en-SG" sz="2200" spc="-1" strike="noStrike">
                <a:solidFill>
                  <a:srgbClr val="000000"/>
                </a:solidFill>
                <a:latin typeface="Tahoma"/>
                <a:ea typeface="Tahoma"/>
              </a:rPr>
              <a:t>Public Information Offic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6"/>
          <p:cNvSpPr/>
          <p:nvPr/>
        </p:nvSpPr>
        <p:spPr>
          <a:xfrm>
            <a:off x="7667640" y="20720160"/>
            <a:ext cx="900252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200" spc="-1" strike="noStrike">
                <a:solidFill>
                  <a:srgbClr val="000000"/>
                </a:solidFill>
                <a:latin typeface="Tahoma"/>
                <a:ea typeface="Tahoma"/>
              </a:rPr>
              <a:t>STAG:  </a:t>
            </a:r>
            <a:r>
              <a:rPr b="0" lang="en-SG" sz="2200" spc="-1" strike="noStrike">
                <a:solidFill>
                  <a:srgbClr val="000000"/>
                </a:solidFill>
                <a:latin typeface="Tahoma"/>
                <a:ea typeface="Tahoma"/>
              </a:rPr>
              <a:t>Strategic and Technical Advisory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200" spc="-1" strike="noStrike">
                <a:solidFill>
                  <a:srgbClr val="000000"/>
                </a:solidFill>
                <a:latin typeface="Tahoma"/>
                <a:ea typeface="Tahoma"/>
              </a:rPr>
              <a:t>RC:  </a:t>
            </a:r>
            <a:r>
              <a:rPr b="0" lang="en-SG" sz="2200" spc="-1" strike="noStrike">
                <a:solidFill>
                  <a:srgbClr val="000000"/>
                </a:solidFill>
                <a:latin typeface="Tahoma"/>
                <a:ea typeface="Tahoma"/>
              </a:rPr>
              <a:t>Risk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7"/>
          <p:cNvSpPr/>
          <p:nvPr/>
        </p:nvSpPr>
        <p:spPr>
          <a:xfrm>
            <a:off x="15946560" y="20683440"/>
            <a:ext cx="912492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200" spc="-1" strike="noStrike">
                <a:solidFill>
                  <a:srgbClr val="000000"/>
                </a:solidFill>
                <a:latin typeface="Tahoma"/>
                <a:ea typeface="Tahoma"/>
              </a:rPr>
              <a:t>POE:  </a:t>
            </a:r>
            <a:r>
              <a:rPr b="0" lang="en-SG" sz="2200" spc="-1" strike="noStrike">
                <a:solidFill>
                  <a:srgbClr val="000000"/>
                </a:solidFill>
                <a:latin typeface="Tahoma"/>
                <a:ea typeface="Tahoma"/>
              </a:rPr>
              <a:t>Point Of E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EMTCC: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Emergency Medical Team Coordination C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0"/>
          <p:cNvSpPr/>
          <p:nvPr/>
        </p:nvSpPr>
        <p:spPr>
          <a:xfrm>
            <a:off x="31289760" y="20162880"/>
            <a:ext cx="1106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1"/>
          <p:cNvSpPr/>
          <p:nvPr/>
        </p:nvSpPr>
        <p:spPr>
          <a:xfrm>
            <a:off x="32315040" y="19767600"/>
            <a:ext cx="39625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Coordinating 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5"/>
          <p:cNvSpPr/>
          <p:nvPr/>
        </p:nvSpPr>
        <p:spPr>
          <a:xfrm>
            <a:off x="22315320" y="7201080"/>
            <a:ext cx="13573440" cy="5871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400" spc="-1" strike="noStrike">
                <a:solidFill>
                  <a:srgbClr val="000000"/>
                </a:solidFill>
                <a:latin typeface="Tahoma"/>
                <a:ea typeface="Tahoma"/>
              </a:rPr>
              <a:t>MEDICAL SPECIALIST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แพทย์เฉพาะทาง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)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นางดอกแก้ว ตามเดช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สสจ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) 08 5614 25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6"/>
          <p:cNvSpPr/>
          <p:nvPr/>
        </p:nvSpPr>
        <p:spPr>
          <a:xfrm>
            <a:off x="22394880" y="7921800"/>
            <a:ext cx="13493880" cy="7682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400" spc="-1" strike="noStrike">
                <a:solidFill>
                  <a:srgbClr val="000000"/>
                </a:solidFill>
                <a:latin typeface="Tahoma"/>
                <a:ea typeface="Tahoma"/>
              </a:rPr>
              <a:t>SAFETY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ปลอดภัย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นายไพรัช วงศ์จุมปู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08 6913 03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9"/>
          <p:cNvSpPr/>
          <p:nvPr/>
        </p:nvSpPr>
        <p:spPr>
          <a:xfrm>
            <a:off x="21923280" y="14679720"/>
            <a:ext cx="12014280" cy="2179440"/>
          </a:xfrm>
          <a:prstGeom prst="rect">
            <a:avLst/>
          </a:prstGeom>
          <a:solidFill>
            <a:srgbClr val="dbeef4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800" spc="-1" strike="noStrike">
                <a:solidFill>
                  <a:srgbClr val="000000"/>
                </a:solidFill>
                <a:latin typeface="Tahoma"/>
                <a:ea typeface="Tahoma"/>
              </a:rPr>
              <a:t>LAW SUPPORT &amp; ENFORCEMENT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ลุ่มภารกิจด้านกฎหมาย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นายจเร บัวสัมฤทธิ์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สสจ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 08 9429 91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นางพัทธยา คมบาง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สสจ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 08 9998 76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0"/>
          <p:cNvSpPr/>
          <p:nvPr/>
        </p:nvSpPr>
        <p:spPr>
          <a:xfrm>
            <a:off x="7791480" y="6126120"/>
            <a:ext cx="10345680" cy="1854360"/>
          </a:xfrm>
          <a:prstGeom prst="rect">
            <a:avLst/>
          </a:prstGeom>
          <a:solidFill>
            <a:srgbClr val="ebf1de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800" spc="-1" strike="noStrike">
                <a:solidFill>
                  <a:srgbClr val="000000"/>
                </a:solidFill>
                <a:latin typeface="Tahoma"/>
                <a:ea typeface="Tahoma"/>
              </a:rPr>
              <a:t>LIAISON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ลุ่มภารกิจประสานงานและเลขานุการ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แพทย์หญิงกนกรส โค้วจิริยะพันธุ์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รพ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 06 2665 62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นายสุรินทร์ ใจมั่น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สสจ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 8 6357 47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2"/>
          <p:cNvSpPr/>
          <p:nvPr/>
        </p:nvSpPr>
        <p:spPr>
          <a:xfrm>
            <a:off x="0" y="5315040"/>
            <a:ext cx="6226200" cy="16747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800" spc="-1" strike="noStrike">
                <a:solidFill>
                  <a:srgbClr val="000000"/>
                </a:solidFill>
                <a:latin typeface="Tahoma"/>
                <a:ea typeface="Tahoma"/>
              </a:rPr>
              <a:t>Inter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SG" sz="28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SG" sz="2800" spc="-1" strike="noStrike">
                <a:solidFill>
                  <a:srgbClr val="000000"/>
                </a:solidFill>
                <a:latin typeface="Tahoma"/>
                <a:ea typeface="Tahoma"/>
              </a:rPr>
              <a:t>agency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นายสุรินทร์ ใจมั่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08 6357 47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Connector: Elbow 85"/>
          <p:cNvCxnSpPr/>
          <p:nvPr/>
        </p:nvCxnSpPr>
        <p:spPr>
          <a:xfrm rot="10800000">
            <a:off x="6225480" y="6111720"/>
            <a:ext cx="1589760" cy="1192680"/>
          </a:xfrm>
          <a:prstGeom prst="bentConnector3">
            <a:avLst>
              <a:gd name="adj1" fmla="val 49988"/>
            </a:avLst>
          </a:prstGeom>
          <a:ln w="31680">
            <a:solidFill>
              <a:srgbClr val="ff0000"/>
            </a:solidFill>
            <a:miter/>
          </a:ln>
        </p:spPr>
      </p:cxnSp>
      <p:sp>
        <p:nvSpPr>
          <p:cNvPr id="122" name="Straight Connector 87"/>
          <p:cNvSpPr/>
          <p:nvPr/>
        </p:nvSpPr>
        <p:spPr>
          <a:xfrm flipV="1">
            <a:off x="6372360" y="8038800"/>
            <a:ext cx="647640" cy="32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0"/>
          <p:cNvSpPr/>
          <p:nvPr/>
        </p:nvSpPr>
        <p:spPr>
          <a:xfrm>
            <a:off x="8163000" y="4260960"/>
            <a:ext cx="9974160" cy="1585800"/>
          </a:xfrm>
          <a:prstGeom prst="rect">
            <a:avLst/>
          </a:prstGeom>
          <a:solidFill>
            <a:srgbClr val="dbeef4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800" spc="-1" strike="noStrike">
                <a:solidFill>
                  <a:srgbClr val="000000"/>
                </a:solidFill>
                <a:latin typeface="Tahoma"/>
                <a:ea typeface="Tahoma"/>
              </a:rPr>
              <a:t>SAT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ลุ่มภารกิจตระหนักรู้สถานการณ์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นายแพทย์สุรวัฒน์ กุลศรี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สสจ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 08 1886 82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นางฉัตรศิริ พิสิษฐ์กุล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สสจ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 08 9008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23688720" y="20875680"/>
            <a:ext cx="110408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MSER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 Medical Service Emergency Response Team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อยู่ในระดับเขตสุขภาพ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6"/>
          <p:cNvSpPr/>
          <p:nvPr/>
        </p:nvSpPr>
        <p:spPr>
          <a:xfrm>
            <a:off x="7667640" y="14648040"/>
            <a:ext cx="10469520" cy="1950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800" spc="-1" strike="noStrike">
                <a:solidFill>
                  <a:srgbClr val="000000"/>
                </a:solidFill>
                <a:latin typeface="Tahoma"/>
                <a:ea typeface="Tahoma"/>
              </a:rPr>
              <a:t>ENVIRONMENTAL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SG" sz="2800" spc="-1" strike="noStrike">
                <a:solidFill>
                  <a:srgbClr val="000000"/>
                </a:solidFill>
                <a:latin typeface="Tahoma"/>
                <a:ea typeface="Tahoma"/>
              </a:rPr>
              <a:t>TEAM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ทีมอนามัยและสิ่งแวดล้อม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นพ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สงกรานต์   เตชะกุลวิโรจน์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รพ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 086 670 984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นายวุฒิฉัตร  วงศ์ใหญ่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รพ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เชียงคำ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 08 5711 681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3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นางอัญญารัตน์ ภมรมานพ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สสจ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06 2391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7"/>
          <p:cNvSpPr/>
          <p:nvPr/>
        </p:nvSpPr>
        <p:spPr>
          <a:xfrm>
            <a:off x="539640" y="13262040"/>
            <a:ext cx="4716720" cy="7207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SG" sz="2400" spc="-1" strike="noStrike">
                <a:solidFill>
                  <a:srgbClr val="000000"/>
                </a:solidFill>
                <a:latin typeface="Tahoma"/>
                <a:ea typeface="Tahoma"/>
              </a:rPr>
              <a:t>OPERATION STATUS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SG" sz="2400" spc="-1" strike="noStrike">
                <a:solidFill>
                  <a:srgbClr val="000000"/>
                </a:solidFill>
                <a:latin typeface="Tahoma"/>
                <a:ea typeface="Tahoma"/>
              </a:rPr>
              <a:t>TRACKING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9"/>
          <p:cNvSpPr/>
          <p:nvPr/>
        </p:nvSpPr>
        <p:spPr>
          <a:xfrm>
            <a:off x="552600" y="14338440"/>
            <a:ext cx="4703760" cy="652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400" spc="-1" strike="noStrike">
                <a:solidFill>
                  <a:srgbClr val="000000"/>
                </a:solidFill>
                <a:latin typeface="Tahoma"/>
                <a:ea typeface="Tahoma"/>
              </a:rPr>
              <a:t>STAGING MA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1" lang="en-SG" sz="2400" spc="-1" strike="noStrike">
                <a:solidFill>
                  <a:srgbClr val="000000"/>
                </a:solidFill>
                <a:latin typeface="Tahoma"/>
                <a:ea typeface="Tahoma"/>
              </a:rPr>
              <a:t>GEMENT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SG" sz="2400" spc="-1" strike="noStrike">
                <a:solidFill>
                  <a:srgbClr val="000000"/>
                </a:solidFill>
                <a:latin typeface="Tahoma"/>
                <a:ea typeface="Tahoma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1"/>
          <p:cNvSpPr/>
          <p:nvPr/>
        </p:nvSpPr>
        <p:spPr>
          <a:xfrm>
            <a:off x="671400" y="15665400"/>
            <a:ext cx="4705560" cy="6620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CEIVING &amp; DELIVERY </a:t>
            </a:r>
            <a:r>
              <a:rPr b="1" lang="en-SG" sz="2400" spc="-1" strike="noStrike">
                <a:solidFill>
                  <a:srgbClr val="000000"/>
                </a:solidFill>
                <a:latin typeface="Tahoma"/>
                <a:ea typeface="Tahoma"/>
              </a:rPr>
              <a:t>UNI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(R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Connector: Elbow 112"/>
          <p:cNvCxnSpPr/>
          <p:nvPr/>
        </p:nvCxnSpPr>
        <p:spPr>
          <a:xfrm rot="5400000">
            <a:off x="4058640" y="14334840"/>
            <a:ext cx="2977560" cy="332640"/>
          </a:xfrm>
          <a:prstGeom prst="bentConnector3">
            <a:avLst>
              <a:gd name="adj1" fmla="val 100931"/>
            </a:avLst>
          </a:prstGeom>
          <a:ln w="31680">
            <a:solidFill>
              <a:srgbClr val="ff0000"/>
            </a:solidFill>
            <a:miter/>
          </a:ln>
        </p:spPr>
      </p:cxnSp>
      <p:sp>
        <p:nvSpPr>
          <p:cNvPr id="130" name="Straight Connector 172"/>
          <p:cNvSpPr/>
          <p:nvPr/>
        </p:nvSpPr>
        <p:spPr>
          <a:xfrm>
            <a:off x="21810600" y="6872400"/>
            <a:ext cx="4874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73"/>
          <p:cNvSpPr/>
          <p:nvPr/>
        </p:nvSpPr>
        <p:spPr>
          <a:xfrm>
            <a:off x="21810600" y="7632720"/>
            <a:ext cx="4874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20"/>
          <p:cNvSpPr/>
          <p:nvPr/>
        </p:nvSpPr>
        <p:spPr>
          <a:xfrm flipH="1">
            <a:off x="5256360" y="13622400"/>
            <a:ext cx="457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77"/>
          <p:cNvSpPr/>
          <p:nvPr/>
        </p:nvSpPr>
        <p:spPr>
          <a:xfrm>
            <a:off x="5345280" y="14670000"/>
            <a:ext cx="368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123"/>
          <p:cNvSpPr/>
          <p:nvPr/>
        </p:nvSpPr>
        <p:spPr>
          <a:xfrm>
            <a:off x="6111720" y="12649320"/>
            <a:ext cx="8607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2"/>
          <p:cNvSpPr/>
          <p:nvPr/>
        </p:nvSpPr>
        <p:spPr>
          <a:xfrm>
            <a:off x="31262760" y="18692640"/>
            <a:ext cx="1106280" cy="384480"/>
          </a:xfrm>
          <a:prstGeom prst="rect">
            <a:avLst/>
          </a:prstGeom>
          <a:solidFill>
            <a:srgbClr val="d9d9d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177120" bIns="177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3"/>
          <p:cNvSpPr/>
          <p:nvPr/>
        </p:nvSpPr>
        <p:spPr>
          <a:xfrm>
            <a:off x="32188320" y="18489600"/>
            <a:ext cx="42177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Not Applicable 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ระดับจังหวั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4"/>
          <p:cNvSpPr/>
          <p:nvPr/>
        </p:nvSpPr>
        <p:spPr>
          <a:xfrm>
            <a:off x="-146160" y="2049480"/>
            <a:ext cx="595008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ll Hazard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Update 8 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ธันวาค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256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3"/>
          <p:cNvSpPr/>
          <p:nvPr/>
        </p:nvSpPr>
        <p:spPr>
          <a:xfrm>
            <a:off x="6006960" y="10323360"/>
            <a:ext cx="0" cy="406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81"/>
          <p:cNvSpPr/>
          <p:nvPr/>
        </p:nvSpPr>
        <p:spPr>
          <a:xfrm>
            <a:off x="18137160" y="7053120"/>
            <a:ext cx="487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87"/>
          <p:cNvSpPr/>
          <p:nvPr/>
        </p:nvSpPr>
        <p:spPr>
          <a:xfrm>
            <a:off x="7020000" y="7304040"/>
            <a:ext cx="0" cy="739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89"/>
          <p:cNvSpPr/>
          <p:nvPr/>
        </p:nvSpPr>
        <p:spPr>
          <a:xfrm>
            <a:off x="14330520" y="10333080"/>
            <a:ext cx="0" cy="396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89"/>
          <p:cNvSpPr/>
          <p:nvPr/>
        </p:nvSpPr>
        <p:spPr>
          <a:xfrm>
            <a:off x="23609160" y="10369440"/>
            <a:ext cx="0" cy="397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27506520" y="10782360"/>
            <a:ext cx="8498160" cy="1958760"/>
          </a:xfrm>
          <a:prstGeom prst="rect">
            <a:avLst/>
          </a:prstGeom>
          <a:solidFill>
            <a:srgbClr val="c6d9f1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720" rIns="414720" tIns="207360" bIns="20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400" spc="-1" strike="noStrike">
                <a:solidFill>
                  <a:srgbClr val="000000"/>
                </a:solidFill>
                <a:latin typeface="Tahoma"/>
                <a:ea typeface="Tahoma"/>
              </a:rPr>
              <a:t>FINANCIAL &amp; ADMINISTRATION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กลุ่มภารกิจการเงินและลงทะเบียน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นางสาวญาณิน สายโกสุ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สสจ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) 09032797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นางสาวอัญชลี แก้วหมุด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สสจ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พะเยา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) 08 9434 57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1" descr="C:\Users\Administrator\Desktop\symbol-ministry\logo MOPH.png"/>
          <p:cNvPicPr/>
          <p:nvPr/>
        </p:nvPicPr>
        <p:blipFill>
          <a:blip r:embed="rId1"/>
          <a:stretch/>
        </p:blipFill>
        <p:spPr>
          <a:xfrm>
            <a:off x="1976400" y="255600"/>
            <a:ext cx="1703520" cy="1708200"/>
          </a:xfrm>
          <a:prstGeom prst="rect">
            <a:avLst/>
          </a:prstGeom>
          <a:ln w="0">
            <a:noFill/>
          </a:ln>
        </p:spPr>
      </p:pic>
      <p:sp>
        <p:nvSpPr>
          <p:cNvPr id="145" name="Straight Connector 89"/>
          <p:cNvSpPr/>
          <p:nvPr/>
        </p:nvSpPr>
        <p:spPr>
          <a:xfrm>
            <a:off x="27435240" y="10422000"/>
            <a:ext cx="0" cy="4340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1T16:27:38Z</dcterms:created>
  <dc:creator>Registered User</dc:creator>
  <dc:description/>
  <dc:language>en-US</dc:language>
  <cp:lastModifiedBy>wuttipong yodkham</cp:lastModifiedBy>
  <cp:lastPrinted>2020-11-26T09:52:33Z</cp:lastPrinted>
  <dcterms:modified xsi:type="dcterms:W3CDTF">2020-12-08T02:22:10Z</dcterms:modified>
  <cp:revision>446</cp:revision>
  <dc:subject/>
  <dc:title>PowerPoint Presentation</dc:title>
</cp:coreProperties>
</file>